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F1F-3048-4916-B894-A868F949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73D-0C96-424B-BAE7-B1F1437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1AE-D15D-45B5-BF59-C9915C65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082-2D72-4B7A-8F11-26A75A77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182-ACDC-4A73-BDEF-2632B226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B60-3514-4E26-9EF8-844B111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63E-31D0-437C-B861-FA1687C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8FE-4322-40BC-8F95-5A50C010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4E6-1649-45F9-BA80-044B333D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88A-D100-4CFE-9B7A-6FD0C95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C3F-0C8D-493C-A94C-07F5972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F87-53E2-45B6-B898-B567199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C46-8950-4FA5-ADAF-F6BF07A5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Ь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 из 9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чества родителей, способных воспитать успешн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Способность выявить возможности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мение создавать условия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Терпимость к своему ребё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Способность быть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Умение поощрять, корректировать и тактично направлять действ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Быть в контакте с социумом ребёнка (школа, друзья, знакомые, учител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цепт воспитания успешного учени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те         Терпения, влейте туда полное          Любви, бросьте две пригоршни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Щедр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лесните туда же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Юмо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сыпьте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Доброт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бавьте как можно больше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Надеж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сё хорошо перемешайте. Затем полученный состав положите на отрезок отведенной вам жизни и щедро делитесь со всеми окружающими вас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Red Hearts Holidays Desktop Hd Cool Tattoos"/>
          <p:cNvPicPr/>
          <p:nvPr/>
        </p:nvPicPr>
        <p:blipFill>
          <a:blip r:embed="rId2"/>
          <a:stretch/>
        </p:blipFill>
        <p:spPr>
          <a:xfrm>
            <a:off x="2484360" y="2060640"/>
            <a:ext cx="1008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920" y="2276640"/>
            <a:ext cx="878508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росайте своих детей, поставьте реальную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ите им взобраться на вершину успе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10 класс"/>
          <p:cNvPicPr/>
          <p:nvPr/>
        </p:nvPicPr>
        <p:blipFill>
          <a:blip r:embed="rId1"/>
          <a:stretch/>
        </p:blipFill>
        <p:spPr>
          <a:xfrm>
            <a:off x="324000" y="422100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29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ник – учитель – ро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Лента записей из дневника блогера CrazyLog.co.ua. Страница 45 :: BlogRider.ru"/>
          <p:cNvPicPr/>
          <p:nvPr/>
        </p:nvPicPr>
        <p:blipFill>
          <a:blip r:embed="rId1"/>
          <a:stretch/>
        </p:blipFill>
        <p:spPr>
          <a:xfrm>
            <a:off x="1116000" y="1700280"/>
            <a:ext cx="59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ание – дело трудное, и улучшение его условий – одна из священных обязанностей каждого человека, ибо нет ничего более важного, как образование самого себя и своих ближних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24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 фраз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й ребенок...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708280"/>
          <a:ext cx="8229600" cy="341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4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е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внимателен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30480" cy="1411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05080" cy="289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440" y="1556640"/>
            <a:ext cx="652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— те, которые вас устраивают в вашем ребе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33000"/>
            <a:ext cx="6131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— те, которые вы бы хотели изменить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27120" y="2009880"/>
            <a:ext cx="4240440" cy="3671280"/>
            <a:chOff x="2427120" y="2009880"/>
            <a:chExt cx="4240440" cy="3671280"/>
          </a:xfrm>
        </p:grpSpPr>
        <p:sp>
          <p:nvSpPr>
            <p:cNvPr id="58" name="_s38920"/>
            <p:cNvSpPr/>
            <p:nvPr/>
          </p:nvSpPr>
          <p:spPr>
            <a:xfrm flipV="1">
              <a:off x="3840120" y="20098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амые лучш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чественные тов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8921"/>
            <p:cNvSpPr/>
            <p:nvPr/>
          </p:nvSpPr>
          <p:spPr>
            <a:xfrm flipV="1">
              <a:off x="3133800" y="32338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ычные товары средней це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ка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8922"/>
            <p:cNvSpPr/>
            <p:nvPr/>
          </p:nvSpPr>
          <p:spPr>
            <a:xfrm flipV="1">
              <a:off x="2427120" y="4457160"/>
              <a:ext cx="4240440" cy="1223640"/>
            </a:xfrm>
            <a:custGeom>
              <a:avLst/>
              <a:gdLst>
                <a:gd name="textAreaLeft" fmla="*/ 736200 w 4240440"/>
                <a:gd name="textAreaRight" fmla="*/ 3504240 w 4240440"/>
                <a:gd name="textAreaTop" fmla="*/ 212400 h 1223640"/>
                <a:gd name="textAreaBottom" fmla="*/ 1011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заведомым браком, низкого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43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ведь дл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одителей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терпимости, он учится понимать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хвалят, он учится быть благоро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безопасности, он учится верить в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поддерживают, он учится цен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живет в понимании и дружелюбии, он учится находить любовь в это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D00019_"/>
          <p:cNvPicPr/>
          <p:nvPr/>
        </p:nvPicPr>
        <p:blipFill>
          <a:blip r:embed="rId1"/>
          <a:stretch/>
        </p:blipFill>
        <p:spPr>
          <a:xfrm>
            <a:off x="6300720" y="260280"/>
            <a:ext cx="20322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пех- это умение добиваться поставленных целей, получая от этого удовольств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нно эффективное  приме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й и умений делает ученика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1 из 9"/>
          <p:cNvPicPr/>
          <p:nvPr/>
        </p:nvPicPr>
        <p:blipFill>
          <a:blip r:embed="rId1"/>
          <a:stretch/>
        </p:blipFill>
        <p:spPr>
          <a:xfrm>
            <a:off x="3780000" y="1700280"/>
            <a:ext cx="5184720" cy="47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Что необходимо родителям и учителям, чтобы воспитать успешного уче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ими качествами должны обладать  учителя, чтобы воспитать успешного ученик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Фото на тему 6класс по математике смешные истории. - 22 Января 2014 - Blog - Mobirostov"/>
          <p:cNvPicPr/>
          <p:nvPr/>
        </p:nvPicPr>
        <p:blipFill>
          <a:blip r:embed="rId1"/>
          <a:stretch/>
        </p:blipFill>
        <p:spPr>
          <a:xfrm>
            <a:off x="539640" y="1413000"/>
            <a:ext cx="403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еобходимо  учителю, чтобы создать успешного уче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Чётко управлять учебным процессом и внеурочной деятельностью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Хорошо знать и любить свой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Уметь терпеть, сдерживаться, не раздражаться, ждать, когда ученики будут делать так, как он планирует. Учить, предпочитая тёплое, человеческое общение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Быть всегда организованным, собранным, активным, энергичным, подготовленным к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Считать своей главной задачей внимание к личности ученика, обеспечение его индивидуального развития, обуче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Владеть образовательными технологиями, уметь объяснять, спрашивать, организовывать работу учеников, применяя разные мет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57:39Z</dcterms:created>
  <dc:creator>Admin</dc:creator>
  <dc:description/>
  <dc:language>en-US</dc:language>
  <cp:lastModifiedBy>сергей</cp:lastModifiedBy>
  <dcterms:modified xsi:type="dcterms:W3CDTF">2014-12-13T07:28:46Z</dcterms:modified>
  <cp:revision>11</cp:revision>
  <dc:subject/>
  <dc:title>Родительское собрание</dc:title>
</cp:coreProperties>
</file>